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969-C94D-408E-B460-FED0E66E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EEC-79DC-42B5-9437-39397C85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1B4E5-4E66-4710-A26B-FCC8AD16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60D74-5081-4D01-9B5F-4AAB1A9B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3485C-E062-462E-8755-4AD97BF6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97EED-0E37-4668-BD06-6F61A460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A5A35-235C-495C-BD0C-B7944EF7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05A1B-7A30-43CE-AE94-0C58D48B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DB0C8-F44A-416B-836A-0A0A30EA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DD14E-3D74-4DE6-8989-CFA44768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C4C9B-BF15-4E76-86DE-36DE4498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D80AD-7E69-4EF4-B14C-F4564D96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35A-11F3-41E2-B737-9C426491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A5FC8-1BF0-42DB-81A5-EE2EAE48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24FB5-7509-4AD3-A039-374F9B0C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F44B4-343F-40BA-B4CB-28F9980C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FEA7C-06BC-4852-BD51-6E435666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456F8-ECB4-485B-9BFD-E71973F6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CD58F-B9BE-4CA6-BB78-ED9ABAFD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A6351-5440-47BD-BC3D-9CD5AC6A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D7C60-63D2-4658-9C45-B5172831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6AAA3-F953-47D8-A686-A58DA54E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DE909-8715-4DBD-844E-6AC6D4F8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6A2-6FE0-426D-A18B-A1D1794E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9CCB3-7A9B-4D33-8B71-D4780D23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5B398-C029-4481-8EFB-8A8123B0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BD4EC-91ED-4EDE-8506-272C9C44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6491F-589F-44EC-B639-82D66CE6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3C925-708A-48B4-B6C8-32BC19F4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78AF6-CE82-4A69-93CB-6E0ED1B3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8D74B-6285-4F1E-9211-2FF7ABCC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DFC5D-CC99-4237-AF54-BC127AB4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32FBE-7146-4679-8273-232359A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86769-044B-4807-B159-AE118C30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D859-E229-4EB8-9AE4-62C3B6B4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805CD-BCE7-4D8C-AE63-4375DA74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DB19A-3B60-4B60-9DE1-DC64C89F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65C53-9391-4FB6-AA2B-A380641E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DED21-A103-4D96-A58E-B83EC96A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BE92B-81A2-46B7-ADA3-63A787FE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78CAE-B282-48C7-A114-F4F12B7B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A4550-D48F-4CF3-96AA-1FAADB61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219F9-9CB2-4FA0-8C18-A852A1DD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63B50-3AC1-4FFC-AF4F-EA20F6C6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40B29-D121-4302-9406-638049B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8222-F09B-403D-BFD4-1A176EBF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C771C-6523-410D-952D-98F1DB20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75007-6DC7-4BCA-AE3E-2D4A4E02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671C9-B745-422D-8AEE-3DA7F76C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71853-8299-41C1-8D1A-9438B77D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417FB-282B-4163-A52E-D63F4148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46140-28DA-4B3A-A6EA-D01B43B1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B8C03-4C01-4770-BF5E-080DA0A4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E410F-966F-4CF5-9417-CAAAB6D7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F7FB4-E6CD-43B4-A20D-78A87F57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8809D-5DD3-40A9-B45D-522FB5C5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68F6-D30C-431F-8DA1-B9FF8453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2BD7A-2F6F-4E53-9172-89CE9815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5D786-77E7-4A2E-A4A2-94D84B2C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DB36A-0A78-4318-A6C3-C7B92A1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E0B90-1618-4EB1-9FA9-77DF9E68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F079A-7363-45E8-9FFD-7BE02656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41915-2D60-49F8-807F-577AD83E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73522-5FC1-4BB2-8E16-F6BCD1E7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A3A01D-553E-4008-B443-1FD44541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5B6CD-419C-426B-98D2-4390A8E0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E0964-6FF1-41FC-88B8-368627AF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E308-FFC4-4E90-8EF1-EFC1BA33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29DD0-139B-4F56-8811-AECDDC10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84D36-8930-4D3B-903D-11CA3A85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09F1C-5B86-4F92-83FF-16E6B883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685D0-A884-4728-8D11-275CEEC3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EE7D0-B533-47E6-8234-453E9E9C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B8BDE-E64A-4A5D-96EF-88EAB3A2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13D3A3-D7FB-4ECC-94E4-09AC7D23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92461-5ED9-4920-8933-C639BA88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6CD98-1107-474A-92C4-F85E411B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3CB82-E98F-463C-92B4-38A3019E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F1FD-6B91-405C-8D97-8BDB8D08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478B74-FB93-424A-956A-D28B350C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9C272-F057-4201-8A2D-AF9E0428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1D87D-3A2D-4949-A36B-DFE2AB24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B0793-3562-4794-B24F-F3CECC4F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8B66B-C261-45CE-BF24-570A1B8C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F3FC7-631C-4677-B43D-53B67EFA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EC26E-26D7-4393-92AD-376AD005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B9DDA-0D89-4A6C-ABE2-FC43818F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0ED18-EA42-47A4-A072-F7CE1D99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A3FD4-EE5F-4586-8A13-F6AE11CB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8EFE-8855-4CEB-A3B0-CC8E8C7D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4056C-7923-4FCD-A817-9ED6EBEB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AE872-9CBC-466A-818A-4113E0C4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18440-CBB8-4126-992E-73992693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4BC77-D253-4D0A-8D6B-89F5AD0C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0F1C71-EDBC-4EEC-B7DF-E3A212D4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5B948-1F7A-4336-A21A-E5B6362A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6C0B6-2402-48C3-8E5A-2B519FCE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C2946-8645-472E-B71D-C6C86778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71037-3611-42B6-8B9E-0E2B725F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782F2-C3A2-46A4-8337-3B32073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5C0A-85AE-41F4-BDAA-A68DD4C8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9A9BD-6947-492D-B662-4F953AC6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6289EF-3DAF-475C-B246-938A5E2C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43714-46D7-4CAA-B43B-3717FA18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7DA-E727-4521-8A7E-560700C9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64D4-384E-4233-9989-E288C655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462A-E459-424C-8B60-9DF19850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51BF-4D3E-4081-B588-DC35736F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9BF2-B7C4-4C9C-A35F-E1152979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9C7D-AFD7-48CF-A5FF-DCB19BD3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03FF6-5ECF-458D-8B60-D2E0E328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7BCC-1BBE-4CCF-B18E-62745924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6582-EC47-4F21-9BED-B465A9BA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5455-AA65-4264-B334-74D74217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C19F-1E4A-46B6-B650-4648BDDF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AFA-6A96-4725-90BA-EB68E1B2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8BC77-D9FF-463D-AEBB-C5C2EEB4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3C3A-2CFB-4C00-B836-C68850A2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E8AA0-346B-49C1-9C01-EBCC4BE3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9C72-FC40-4967-BBDB-750240DA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2CA6-A9BF-43B5-8B5D-DADE29AF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B197-2CF5-4329-8997-4065E7DE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4524-BA29-47FD-815D-801EBBE7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6378C-98AC-423D-A7FD-BE1DBDD2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5912-96DC-4B8A-BD06-060FF656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11A3-9F94-4539-B7A3-4BAC8EF0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381-280C-4911-B22A-F3779D24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E2039-B1E0-4FC4-9F12-8A84FAEF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767C8-E8F8-42BA-AF13-04CD7C56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8DB08-D35D-407F-BA07-92E137CB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B48E1-7522-4AB2-81C7-E7D83B28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0C72A-8C53-44EF-9772-1929652E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1C01-E15D-4F81-B4F0-2FE76DBD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C4595-F66E-472A-9306-C4505F90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9B56C-8FB6-4150-AE46-950AA140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BA7A-13CC-454F-BDE5-52E4FAB8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F0924-9346-4880-89DD-790898B3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8F1-EE8A-4DED-9B6D-A8AE2E25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5C8BE-08D1-423A-845B-E1745CC6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1CF57-58CE-4A8F-A5C6-D086B1DE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F4D12-E10A-48F1-904C-F4AE68BD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7438A-27E6-4156-B391-4CC14D29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2C961-00D7-4741-9FD2-D0766F5C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1705B-237C-4F54-B9A6-C7CF2AF7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F8BA7-1846-4C2D-B850-C7CD2BE2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41A92-8127-4EF4-814E-85E26CFB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EC0FB-62DA-4230-939A-6DC7A51D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2E135-AE31-464E-A951-0D6E490A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BAB-57C9-43A5-AA08-89E261EE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7471-36DC-4F3D-8149-94E8ED8D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7AD26-E3C3-4416-98D1-3EF1AB02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ABCAB-59AC-45C2-888A-62B0F57E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934C2-D4AD-4060-9969-83F6D244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FCE62-5824-4717-8AA8-BD503636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AD108-A0C7-4B27-8080-D10B71D6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3A394-0631-4DCC-9115-4CE47D4E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3F4E4-4814-4EA7-8E9E-10254DB7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F3409-5A74-4FC9-806A-992B84E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B2A91-CB95-405B-9A2A-07495F87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2FE-79D2-42B5-9782-12A81EAE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B4066-B43E-445D-BF1B-A17D07B1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13506-5C7B-431E-9005-0BA40D42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45C62-0480-4C62-9FCD-4F510438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F2893-3636-4D84-9E78-FC2A9310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D00BD-16EB-4B0F-A1FB-3B17BD4A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48EF0-BF3A-4A3D-9011-45282926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40CA7-4228-4A0E-8886-15BB4E6F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8A354-65BC-4FBF-AC04-56E2B59D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8C66E-B9AC-44CA-8CB3-E7CBE580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795A-F25C-4283-8042-F51EC532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103-B60E-408C-BC77-632B6F7F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27586-750C-40B2-9C4B-1E9A181C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BC787-1300-48FC-A377-04846DFF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723A6-0266-4883-885B-DFA0E924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2CEA6-0471-40A8-8EAF-9C68C378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AF83A-AB21-4375-8C78-094DF1BF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101CD-C2C8-41DC-B611-4CF87527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6ADE3-9EA8-4CB8-AE61-64575BBA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07F2-7767-49F3-8672-53A037D7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DC3D8-A8A6-4FE0-924A-E30D58F3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35099-97B0-4DE1-A3F4-FE55745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9C8-DBAA-4A54-945B-8D345CB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83F42-8F38-4E1D-9FEF-A0400959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226C0-B38B-44BF-AFA5-06F23998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34921-C60E-4FA3-98B8-9980A1FD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9B6B9-93BA-4ECA-AA4F-C1CFF5E3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980A-BC35-4D48-9DBF-5A4DF3A2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E7ACC-246B-43F9-AC69-1BC63950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D7DA5-3AB8-4890-849E-F21A57E6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2E316-4720-49ED-BC73-4923EBE3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A885E-58F6-4D70-A3C2-6F724478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2BBD2-814A-48A9-AD0A-67D6218F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05B8-5E56-4BC6-98E2-E8C9A94141C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3882-8DF2-4416-BE4A-03FB76484FE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7F7-7BE6-47BC-A922-6AC30DBD13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640A-F50F-40DE-9A41-FCABBBEDA35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8A81-1BC1-4CDD-9B43-A717E6E4D78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EE98-09F8-4FE9-A6C8-9554408C64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51AD-6B15-4E23-9F96-773639692EE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5142-2CC7-4BFB-AEA7-C6F465BC6B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025B-9DD2-4384-B02D-E53A97C5622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91BC-23FE-4152-942E-C99CD893B94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B0C9-3AF3-4BAA-92BE-0F344832B21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6E5D-AE04-4E90-B602-243D0B8B9C7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81A6-94A4-40B5-B74E-3D8460E4F84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1AA3-EC05-46D9-9D74-0C1938D7770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0BA6-0106-4413-89C2-F9A65B153A2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8FFC-9EE3-41AB-9920-398523B038A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bionet-skola.com/w/Slika:Osmozaieritrociti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Rectangle 2" descr=""/>
          <p:cNvPicPr/>
          <p:nvPr/>
        </p:nvPicPr>
        <p:blipFill>
          <a:blip r:embed="rId1"/>
          <a:stretch/>
        </p:blipFill>
        <p:spPr>
          <a:xfrm>
            <a:off x="-1620720" y="1127160"/>
            <a:ext cx="8564400" cy="1920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" descr="Animal Cells and the Membrane-Bound Nucleus"/>
          <p:cNvPicPr/>
          <p:nvPr/>
        </p:nvPicPr>
        <p:blipFill>
          <a:blip r:embed="rId2"/>
          <a:stretch/>
        </p:blipFill>
        <p:spPr>
          <a:xfrm>
            <a:off x="2556000" y="313056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vi-VN" sz="5000" spc="-1" strike="noStrike">
                <a:solidFill>
                  <a:srgbClr val="04617b"/>
                </a:solidFill>
                <a:latin typeface="Arial"/>
              </a:rPr>
              <a:t>Pro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0" y="1916280"/>
            <a:ext cx="428472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 differentiated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embrane-bou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umber of organel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ibosomes) in the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3" name="Picture 6" descr="Prokaryotic Cell: Definition, Examples, &amp; Structure"/>
          <p:cNvPicPr/>
          <p:nvPr/>
        </p:nvPicPr>
        <p:blipFill>
          <a:blip r:embed="rId1"/>
          <a:stretch/>
        </p:blipFill>
        <p:spPr>
          <a:xfrm>
            <a:off x="4235400" y="1700280"/>
            <a:ext cx="4692600" cy="4332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Eu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179280" y="1557360"/>
            <a:ext cx="66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5" descr="Prokaryotic Cell - Definition, Examples &amp; Structure | Biology Dictionary"/>
          <p:cNvPicPr/>
          <p:nvPr/>
        </p:nvPicPr>
        <p:blipFill>
          <a:blip r:embed="rId1"/>
          <a:stretch/>
        </p:blipFill>
        <p:spPr>
          <a:xfrm>
            <a:off x="4284720" y="2276640"/>
            <a:ext cx="46101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AND PLANT CE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8000" y="5229360"/>
            <a:ext cx="5148360" cy="13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elles pres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ly in a plan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9" name="Picture 7" descr="Plant vs. Animal Cells | Biology Dictionary"/>
          <p:cNvPicPr/>
          <p:nvPr/>
        </p:nvPicPr>
        <p:blipFill>
          <a:blip r:embed="rId1"/>
          <a:stretch/>
        </p:blipFill>
        <p:spPr>
          <a:xfrm>
            <a:off x="611280" y="1125360"/>
            <a:ext cx="7794360" cy="378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811" name="Picture 5" descr="Cell Membrane Structure and Function - YouTube"/>
          <p:cNvPicPr/>
          <p:nvPr/>
        </p:nvPicPr>
        <p:blipFill>
          <a:blip r:embed="rId1"/>
          <a:stretch/>
        </p:blipFill>
        <p:spPr>
          <a:xfrm>
            <a:off x="539640" y="1989000"/>
            <a:ext cx="7380360" cy="4151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pi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8000" y="1935000"/>
            <a:ext cx="56260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rane conta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spholip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have 2 part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(polar) – hydrophil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 (non-polar) –hydrophob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facing each other wi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hydrophobic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Glycolip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holeste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24000" y="5805360"/>
            <a:ext cx="770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and proteins are constantly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7" descr="4.7: Eukaryotic Cells - The Plasma Membrane and the Cytoplasm - Biology  LibreTexts"/>
          <p:cNvPicPr/>
          <p:nvPr/>
        </p:nvPicPr>
        <p:blipFill>
          <a:blip r:embed="rId1"/>
          <a:stretch/>
        </p:blipFill>
        <p:spPr>
          <a:xfrm>
            <a:off x="5076720" y="2421000"/>
            <a:ext cx="4067280" cy="274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teins</a:t>
            </a:r>
            <a:br>
              <a:rPr sz="32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and channels - participate in the transport of molecules through the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18" name="Picture 6" descr="Protein Function | Learn Science at Scitable"/>
          <p:cNvPicPr/>
          <p:nvPr/>
        </p:nvPicPr>
        <p:blipFill>
          <a:blip r:embed="rId1"/>
          <a:stretch/>
        </p:blipFill>
        <p:spPr>
          <a:xfrm>
            <a:off x="755640" y="4221000"/>
            <a:ext cx="7989840" cy="2637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Membrane transport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9640" y="2468520"/>
            <a:ext cx="82296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assive transport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out energy consumption, due to the difference in concentration on one and the other side of the membr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ive transpor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 energy, against the concentration grad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as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630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imple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through the membrane down the concentration gradient, until the concentrations are equalized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stances soluble in lipids, gas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Osmosi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diffusion of water through the membrane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posite to the concentration gradient (from lower to highe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Facilitated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of molecules through the membrane using carrier protein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glucose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regulated by hormones (glucose-insulin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4" name="Picture 3" descr="300px-400px-Diffusion"/>
          <p:cNvPicPr/>
          <p:nvPr/>
        </p:nvPicPr>
        <p:blipFill>
          <a:blip r:embed="rId1">
            <a:lum contrast="60000"/>
          </a:blip>
          <a:srcRect l="0" t="0" r="0" b="19612"/>
          <a:stretch/>
        </p:blipFill>
        <p:spPr>
          <a:xfrm>
            <a:off x="6227640" y="1484280"/>
            <a:ext cx="2627280" cy="11527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300px-Osmozaieritrociti">
            <a:hlinkClick r:id="rId2"/>
          </p:cNvPr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248520" y="3068640"/>
            <a:ext cx="2895480" cy="15145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6" descr="GB1-os19"/>
          <p:cNvPicPr/>
          <p:nvPr/>
        </p:nvPicPr>
        <p:blipFill>
          <a:blip r:embed="rId4">
            <a:lum contrast="6000"/>
          </a:blip>
          <a:srcRect l="0" t="21758" r="0" b="12803"/>
          <a:stretch/>
        </p:blipFill>
        <p:spPr>
          <a:xfrm>
            <a:off x="6180120" y="5281560"/>
            <a:ext cx="2963880" cy="157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4537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dium-potassium pu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active transport of molecu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part with the lower to the part with the higher con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arrier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of energy (AT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7" descr="Sodium-Potassium pump which uses ATP to pump sodium ions out of the... |  Download Scientific Diagram"/>
          <p:cNvPicPr/>
          <p:nvPr/>
        </p:nvPicPr>
        <p:blipFill>
          <a:blip r:embed="rId1"/>
          <a:stretch/>
        </p:blipFill>
        <p:spPr>
          <a:xfrm>
            <a:off x="4716360" y="2133720"/>
            <a:ext cx="4176720" cy="41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ransport of large molecul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78120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d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hagocytosis, pinocytosis) - bringing molecules into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emoving of undigested substances from the cell into the external environm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3" name="Picture 19" descr="image007"/>
          <p:cNvPicPr/>
          <p:nvPr/>
        </p:nvPicPr>
        <p:blipFill>
          <a:blip r:embed="rId1"/>
          <a:stretch/>
        </p:blipFill>
        <p:spPr>
          <a:xfrm>
            <a:off x="6372360" y="260280"/>
            <a:ext cx="2771640" cy="20829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24" descr="imag-endocistosis"/>
          <p:cNvPicPr/>
          <p:nvPr/>
        </p:nvPicPr>
        <p:blipFill>
          <a:blip r:embed="rId2"/>
          <a:stretch/>
        </p:blipFill>
        <p:spPr>
          <a:xfrm>
            <a:off x="6516720" y="4230720"/>
            <a:ext cx="2363760" cy="262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asic structur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all living organism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mallest function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can perform all life process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s the interior of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art of the cytoplasm in which they are locatedcell organelles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YTOSOL + ORGANELES = CYTOPLA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7" name="Picture 5" descr="Cell parts and their functions | Cells and organisms | Middle school  biology | Khan Academy - YouTube"/>
          <p:cNvPicPr/>
          <p:nvPr/>
        </p:nvPicPr>
        <p:blipFill>
          <a:blip r:embed="rId1"/>
          <a:stretch/>
        </p:blipFill>
        <p:spPr>
          <a:xfrm>
            <a:off x="2685960" y="4437000"/>
            <a:ext cx="4046760" cy="227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Rectangle 2"/>
          <p:cNvSpPr/>
          <p:nvPr/>
        </p:nvSpPr>
        <p:spPr>
          <a:xfrm>
            <a:off x="250920" y="4581360"/>
            <a:ext cx="48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s of eukaryotes (80S) consist of 2 subun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(60S)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(4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0" y="1700280"/>
            <a:ext cx="608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prokaryotic and eukaryotic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role in protein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in the cytoplas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outer nuclear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membrane of the granular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7" descr="Structure Eukaryotic Ribosome 80S Ribosome Showing Smaller and Larger  Subunit Stock Illustration - Illustration of microscopic, anatomy: 200726002"/>
          <p:cNvPicPr/>
          <p:nvPr/>
        </p:nvPicPr>
        <p:blipFill>
          <a:blip r:embed="rId1"/>
          <a:srcRect l="0" t="-1313" r="0" b="29713"/>
          <a:stretch/>
        </p:blipFill>
        <p:spPr>
          <a:xfrm>
            <a:off x="5003640" y="3862440"/>
            <a:ext cx="3961080" cy="2995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OPLASMATIC RETICULUME - E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843" name="Object 3"/>
          <p:cNvGraphicFramePr/>
          <p:nvPr/>
        </p:nvGraphicFramePr>
        <p:xfrm>
          <a:off x="2050920" y="3068640"/>
          <a:ext cx="31528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068640"/>
                    <a:ext cx="31528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Rectangle 3"/>
          <p:cNvSpPr/>
          <p:nvPr/>
        </p:nvSpPr>
        <p:spPr>
          <a:xfrm>
            <a:off x="108000" y="1557360"/>
            <a:ext cx="345600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uge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s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5364000" y="1413000"/>
            <a:ext cx="352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Smooth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 Е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, without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f synthesis of lipids and steroid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nnected to the 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s a role in regulating the level of Ca in muscl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49636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4900" spc="-1" strike="noStrike">
                <a:solidFill>
                  <a:srgbClr val="000000"/>
                </a:solidFill>
                <a:latin typeface="Arial"/>
              </a:rPr>
              <a:t>olgi apparatu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24000" y="2133720"/>
            <a:ext cx="806436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ory 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developed in glandula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f membranes – cis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role in the modification and sorting of macromolec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2" descr="Molecular Expressions Cell Biology: The Golgi Apparatus"/>
          <p:cNvPicPr/>
          <p:nvPr/>
        </p:nvPicPr>
        <p:blipFill>
          <a:blip r:embed="rId1"/>
          <a:stretch/>
        </p:blipFill>
        <p:spPr>
          <a:xfrm>
            <a:off x="5888160" y="1700280"/>
            <a:ext cx="325584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0" y="2468520"/>
            <a:ext cx="44276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ell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r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vel of 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ther substances 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395280" y="1484280"/>
            <a:ext cx="3728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7" descr="Mitochondria: Form, function, and disease"/>
          <p:cNvPicPr/>
          <p:nvPr/>
        </p:nvPicPr>
        <p:blipFill>
          <a:blip r:embed="rId1"/>
          <a:stretch/>
        </p:blipFill>
        <p:spPr>
          <a:xfrm>
            <a:off x="4211640" y="1695600"/>
            <a:ext cx="4932360" cy="373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ucle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5363640" y="2060640"/>
            <a:ext cx="4038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plasm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romat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cleol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59" name="Picture 6" descr="Nucleus- Definition, Structure, Parts, Functions, Diagram"/>
          <p:cNvPicPr/>
          <p:nvPr/>
        </p:nvPicPr>
        <p:blipFill>
          <a:blip r:embed="rId1"/>
          <a:stretch/>
        </p:blipFill>
        <p:spPr>
          <a:xfrm>
            <a:off x="179280" y="1825560"/>
            <a:ext cx="5073840" cy="4105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210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elles present only in a plant cel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lipoprotein membrane and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 and circular DNA in the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 би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 chlor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hlorophyll- participate in photosynthes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 chrom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arotenoids, yellow and orange pigments- they give color to the leaves in autum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cca62"/>
                </a:solidFill>
                <a:latin typeface="Arial"/>
              </a:rPr>
              <a:t>3. leuk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ithout pigment- synthesize starch, fats,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3" name="Picture 6" descr="Plastids - Definition, Classification, Structure, Functions - GeeksforGeeks"/>
          <p:cNvPicPr/>
          <p:nvPr/>
        </p:nvPicPr>
        <p:blipFill>
          <a:blip r:embed="rId1"/>
          <a:stretch/>
        </p:blipFill>
        <p:spPr>
          <a:xfrm>
            <a:off x="5580000" y="836640"/>
            <a:ext cx="3203640" cy="19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4321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ole membrane – tonopl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sites of various metabol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ontain dissolved pig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6" name="Picture 6" descr="Molecular Expressions Cell Biology: Plant Cell Structure - Vacuoles"/>
          <p:cNvPicPr/>
          <p:nvPr/>
        </p:nvPicPr>
        <p:blipFill>
          <a:blip r:embed="rId1"/>
          <a:stretch/>
        </p:blipFill>
        <p:spPr>
          <a:xfrm>
            <a:off x="4606920" y="1773360"/>
            <a:ext cx="4537080" cy="418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8000" y="234900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lamella (intercellular substan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wall (cellulos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wall (when the cell stops growing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9" name="Picture 6" descr="Cell Wall - Definition, Cell Wall Function, Cell Wall Layers"/>
          <p:cNvPicPr/>
          <p:nvPr/>
        </p:nvPicPr>
        <p:blipFill>
          <a:blip r:embed="rId1"/>
          <a:stretch/>
        </p:blipFill>
        <p:spPr>
          <a:xfrm>
            <a:off x="539640" y="4714920"/>
            <a:ext cx="4287960" cy="21430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8" descr="Cell Wall: Definition, Structure, &amp; Functions with Diagram"/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 THEORY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rganism is made up of one or more cell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the basic units of an organism's structure and func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created by the division of mother cell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ersity of the cells of an organism is the result of differences in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organiz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structure of the cell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lements in the cell - biogenic element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elements (O, C, H, 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elements (Fe, Mn, Cu...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Inorganic compound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792" name="Picture 4" descr="mini-2"/>
          <p:cNvPicPr/>
          <p:nvPr/>
        </p:nvPicPr>
        <p:blipFill>
          <a:blip r:embed="rId1"/>
          <a:stretch/>
        </p:blipFill>
        <p:spPr>
          <a:xfrm>
            <a:off x="9058320" y="38228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main component, makes up 50-95% of the cell's weight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water in the cell depends on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ctivities of the cell (tooth dentin 10% water) an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water is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solv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environment for metabolic reaction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regulation and osmoregulation</a:t>
            </a: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organic sal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ons (chlorides, carbonates, phosphates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ions (K+, Na+, Ca2+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oluble precipitates in the cel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Organic compou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39640" y="2636640"/>
            <a:ext cx="822960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bohydrates [sugar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pids [fat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ic acids [DNA and RNA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types of cel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mplexity of the structure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76000" y="2923920"/>
            <a:ext cx="648972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4:06:49Z</dcterms:created>
  <dc:creator>User</dc:creator>
  <dc:description/>
  <dc:language>en-US</dc:language>
  <cp:lastModifiedBy>Korisnik</cp:lastModifiedBy>
  <dcterms:modified xsi:type="dcterms:W3CDTF">2022-10-03T12:45:18Z</dcterms:modified>
  <cp:revision>108</cp:revision>
  <dc:subject/>
  <dc:title>ĆELIJA</dc:title>
</cp:coreProperties>
</file>